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97700" cy="9274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98400" cy="927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1680" y="4403520"/>
            <a:ext cx="513396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96504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4155F86-A0E6-43D6-8EA6-48134B58D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6504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BD05AA2-2095-4B4B-B6F6-05822081B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1160" y="704880"/>
            <a:ext cx="4635360" cy="34765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0200" y="4403520"/>
            <a:ext cx="55972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6504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BEDCA97-2B21-4D9B-A9A6-117E332D6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096920" y="592200"/>
            <a:ext cx="4803840" cy="36036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29880" y="4411800"/>
            <a:ext cx="513396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6504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426E20B-BEE8-47E1-8BC9-F86D12B0F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81160" y="704880"/>
            <a:ext cx="4635360" cy="34765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0200" y="4403520"/>
            <a:ext cx="55972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6504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DD7414C-347F-4AAA-84F0-85215CCB1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096920" y="592200"/>
            <a:ext cx="4803840" cy="36036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29880" y="4411800"/>
            <a:ext cx="513396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6504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87087FC-A041-467D-B4DD-E7FBA0284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096920" y="592200"/>
            <a:ext cx="4803840" cy="36036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29880" y="4411800"/>
            <a:ext cx="513396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6504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6ABD78E-9669-42D4-8C4F-0F6F83C49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880884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096920" y="592200"/>
            <a:ext cx="4803840" cy="3603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29880" y="4411800"/>
            <a:ext cx="513396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784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68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5784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68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40" y="6531120"/>
            <a:ext cx="9144000" cy="3268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2351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 fontScale="99000"/>
          </a:bodyPr>
          <a:p>
            <a:pPr indent="0">
              <a:lnSpc>
                <a:spcPct val="95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36240" indent="-22284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86960" indent="-21816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239840" indent="-21960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692360" indent="-21960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692360" indent="-21960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692360" indent="-21960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593880" y="6579720"/>
            <a:ext cx="2895480" cy="2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5400" y="1442880"/>
            <a:ext cx="6399000" cy="17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09256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181480" y="5246640"/>
            <a:ext cx="3648240" cy="1258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5260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23660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546120" y="2109960"/>
            <a:ext cx="6235560" cy="24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nking Open Drug Data</a:t>
            </a:r>
            <a:br>
              <a:rPr sz="5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ie Stephen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al Research Scientist, Eli Lilly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DD Participa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 fontScale="98000"/>
          </a:bodyPr>
          <a:p>
            <a:pPr>
              <a:lnSpc>
                <a:spcPct val="75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sse Anders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 B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 Che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Doh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tie Hassanzade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ja Jentz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tt Mars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ic Prud’homme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thias Samwa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ie Steph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 Zh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6781680" cy="343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ctr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DD: Data Set Evalu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749160" y="1440000"/>
            <a:ext cx="7556760" cy="48844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198960" y="6629400"/>
            <a:ext cx="565920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http://esw.w3.org/topic/HCLSIG/LODD/Data/DataSetEval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ctr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racterizing Drug Data Sour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23880" y="6300720"/>
            <a:ext cx="7391520" cy="4809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 fontScale="77000"/>
          </a:bodyPr>
          <a:p>
            <a:pPr marL="284400" indent="0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1312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Mark Sharp, et al: A Framework for Characterizing Drug Information Sources,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9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42320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DD Data Se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rcRect l="0" t="0" r="0" b="2141"/>
          <a:stretch/>
        </p:blipFill>
        <p:spPr>
          <a:xfrm>
            <a:off x="1295280" y="1752480"/>
            <a:ext cx="6324840" cy="39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DD in Marb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0" t="0" r="0" b="28360"/>
          <a:stretch/>
        </p:blipFill>
        <p:spPr>
          <a:xfrm>
            <a:off x="2133720" y="1371600"/>
            <a:ext cx="456084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ctr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97720" cy="4175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marL="369720" indent="-369720">
              <a:lnSpc>
                <a:spcPct val="9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idly growing cloud of Linked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9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data sets related to life sci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9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3C’s HCLSIG has published 4 drug related data s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9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ments needed to linking algorithms and data brows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720"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720"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720"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ked Data Princip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king Open Drug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1360" y="361440"/>
            <a:ext cx="82314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he Classic We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3"/>
          <p:cNvSpPr/>
          <p:nvPr/>
        </p:nvSpPr>
        <p:spPr>
          <a:xfrm>
            <a:off x="2268360" y="5040360"/>
            <a:ext cx="654120" cy="979560"/>
          </a:xfrm>
          <a:prstGeom prst="flowChartMagneticDisk">
            <a:avLst/>
          </a:pr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 flipV="1">
            <a:off x="2595600" y="4471920"/>
            <a:ext cx="1440" cy="44928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2301840" y="3429000"/>
            <a:ext cx="654120" cy="979560"/>
          </a:xfrm>
          <a:prstGeom prst="flowChartMultidocument">
            <a:avLst/>
          </a:prstGeom>
          <a:solidFill>
            <a:srgbClr val="e6e6e6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3835440" y="5025960"/>
            <a:ext cx="654120" cy="979560"/>
          </a:xfrm>
          <a:prstGeom prst="flowChartMagneticDisk">
            <a:avLst/>
          </a:pr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"/>
          <p:cNvSpPr/>
          <p:nvPr/>
        </p:nvSpPr>
        <p:spPr>
          <a:xfrm>
            <a:off x="3868560" y="3429000"/>
            <a:ext cx="654120" cy="979560"/>
          </a:xfrm>
          <a:prstGeom prst="flowChartMultidocument">
            <a:avLst/>
          </a:prstGeom>
          <a:solidFill>
            <a:srgbClr val="e6e6e6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2449440" y="5499000"/>
            <a:ext cx="3096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4019400" y="5484960"/>
            <a:ext cx="3114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2263680" y="37926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3830760" y="3792600"/>
            <a:ext cx="741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2"/>
          <p:cNvSpPr/>
          <p:nvPr/>
        </p:nvSpPr>
        <p:spPr>
          <a:xfrm>
            <a:off x="955800" y="3402000"/>
            <a:ext cx="653760" cy="979560"/>
          </a:xfrm>
          <a:prstGeom prst="flowChartMultidocument">
            <a:avLst/>
          </a:prstGeom>
          <a:solidFill>
            <a:srgbClr val="e6e6e6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917640" y="37656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 flipV="1">
            <a:off x="4181400" y="4465800"/>
            <a:ext cx="1800" cy="45072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5"/>
          <p:cNvSpPr/>
          <p:nvPr/>
        </p:nvSpPr>
        <p:spPr>
          <a:xfrm flipV="1">
            <a:off x="1731960" y="3772080"/>
            <a:ext cx="469800" cy="217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6"/>
          <p:cNvSpPr/>
          <p:nvPr/>
        </p:nvSpPr>
        <p:spPr>
          <a:xfrm>
            <a:off x="3054240" y="3664080"/>
            <a:ext cx="717840" cy="1508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7"/>
          <p:cNvSpPr/>
          <p:nvPr/>
        </p:nvSpPr>
        <p:spPr>
          <a:xfrm>
            <a:off x="3079800" y="3897360"/>
            <a:ext cx="666720" cy="274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1365120" y="1757520"/>
            <a:ext cx="113508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News Gothic MT"/>
              </a:rPr>
              <a:t>Web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News Gothic MT"/>
              </a:rPr>
              <a:t>Brow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2895480" y="1744560"/>
            <a:ext cx="113508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News Gothic MT"/>
              </a:rPr>
              <a:t>Search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News Gothic MT"/>
              </a:rPr>
              <a:t>Eng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1558440" y="4137120"/>
            <a:ext cx="7365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News Gothic MT"/>
              </a:rPr>
              <a:t>hyper-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News Gothic MT"/>
              </a:rPr>
              <a:t>li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81120" y="1752120"/>
            <a:ext cx="3505320" cy="3124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marL="45720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informatio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t 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5000"/>
              </a:lnSpc>
              <a:spcBef>
                <a:spcPts val="638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lobally unique ID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5000"/>
              </a:lnSpc>
              <a:spcBef>
                <a:spcPts val="638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trieval mechanis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t on Hyper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e the glue that holds everything togeth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2"/>
          <p:cNvSpPr/>
          <p:nvPr/>
        </p:nvSpPr>
        <p:spPr>
          <a:xfrm>
            <a:off x="915840" y="5033880"/>
            <a:ext cx="654120" cy="981000"/>
          </a:xfrm>
          <a:prstGeom prst="flowChartMagneticDisk">
            <a:avLst/>
          </a:pr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3"/>
          <p:cNvSpPr/>
          <p:nvPr/>
        </p:nvSpPr>
        <p:spPr>
          <a:xfrm flipV="1">
            <a:off x="1243080" y="4465800"/>
            <a:ext cx="1440" cy="45072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1081080" y="5472000"/>
            <a:ext cx="3096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5"/>
          <p:cNvSpPr/>
          <p:nvPr/>
        </p:nvSpPr>
        <p:spPr>
          <a:xfrm>
            <a:off x="1733400" y="2638440"/>
            <a:ext cx="455760" cy="420840"/>
          </a:xfrm>
          <a:prstGeom prst="upArrow">
            <a:avLst>
              <a:gd name="adj1" fmla="val 49852"/>
              <a:gd name="adj2" fmla="val 3419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6"/>
          <p:cNvSpPr/>
          <p:nvPr/>
        </p:nvSpPr>
        <p:spPr>
          <a:xfrm>
            <a:off x="3270240" y="2624040"/>
            <a:ext cx="455760" cy="420840"/>
          </a:xfrm>
          <a:prstGeom prst="upArrow">
            <a:avLst>
              <a:gd name="adj1" fmla="val 49852"/>
              <a:gd name="adj2" fmla="val 3419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2958480" y="4175280"/>
            <a:ext cx="7365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News Gothic MT"/>
              </a:rPr>
              <a:t>hyper-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News Gothic MT"/>
              </a:rPr>
              <a:t>li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28800" y="6629400"/>
            <a:ext cx="15400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Chris B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ctr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nked Dat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36760" y="2362320"/>
            <a:ext cx="5954400" cy="3930120"/>
            <a:chOff x="1436760" y="2362320"/>
            <a:chExt cx="5954400" cy="3930120"/>
          </a:xfrm>
        </p:grpSpPr>
        <p:sp>
          <p:nvSpPr>
            <p:cNvPr id="121" name="Rectangle 5"/>
            <p:cNvSpPr/>
            <p:nvPr/>
          </p:nvSpPr>
          <p:spPr>
            <a:xfrm>
              <a:off x="1442160" y="3903120"/>
              <a:ext cx="682920" cy="445680"/>
            </a:xfrm>
            <a:prstGeom prst="rect">
              <a:avLst/>
            </a:prstGeom>
            <a:solidFill>
              <a:srgbClr val="e0e0e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6"/>
            <p:cNvSpPr/>
            <p:nvPr/>
          </p:nvSpPr>
          <p:spPr>
            <a:xfrm>
              <a:off x="2728440" y="5456160"/>
              <a:ext cx="549360" cy="836280"/>
            </a:xfrm>
            <a:prstGeom prst="flowChartMagneticDisk">
              <a:avLst/>
            </a:prstGeom>
            <a:noFill/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V="1">
              <a:off x="3003480" y="4964760"/>
              <a:ext cx="1080" cy="39312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8"/>
            <p:cNvSpPr/>
            <p:nvPr/>
          </p:nvSpPr>
          <p:spPr>
            <a:xfrm>
              <a:off x="4045680" y="5443920"/>
              <a:ext cx="550800" cy="836640"/>
            </a:xfrm>
            <a:prstGeom prst="flowChartMagneticDisk">
              <a:avLst/>
            </a:prstGeom>
            <a:noFill/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9"/>
            <p:cNvSpPr/>
            <p:nvPr/>
          </p:nvSpPr>
          <p:spPr>
            <a:xfrm>
              <a:off x="2880360" y="5846760"/>
              <a:ext cx="25992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0"/>
            <p:cNvSpPr/>
            <p:nvPr/>
          </p:nvSpPr>
          <p:spPr>
            <a:xfrm>
              <a:off x="4199040" y="5834520"/>
              <a:ext cx="262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1"/>
            <p:cNvSpPr/>
            <p:nvPr/>
          </p:nvSpPr>
          <p:spPr>
            <a:xfrm>
              <a:off x="1467000" y="4006080"/>
              <a:ext cx="6217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 flipV="1">
              <a:off x="4336560" y="4959720"/>
              <a:ext cx="1440" cy="39456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 flipV="1">
              <a:off x="2205360" y="4151160"/>
              <a:ext cx="360360" cy="45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4"/>
            <p:cNvSpPr/>
            <p:nvPr/>
          </p:nvSpPr>
          <p:spPr>
            <a:xfrm>
              <a:off x="3425400" y="4126680"/>
              <a:ext cx="460080" cy="116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>
              <a:off x="3435840" y="4556880"/>
              <a:ext cx="489600" cy="157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6"/>
            <p:cNvSpPr/>
            <p:nvPr/>
          </p:nvSpPr>
          <p:spPr>
            <a:xfrm>
              <a:off x="2107800" y="5000400"/>
              <a:ext cx="6688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41040" bIns="410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News Gothic MT"/>
                </a:rPr>
                <a:t>typed</a:t>
              </a:r>
              <a:br>
                <a:rPr sz="1400"/>
              </a:br>
              <a:r>
                <a:rPr b="1" lang="en-GB" sz="1400" spc="-1" strike="noStrike">
                  <a:solidFill>
                    <a:srgbClr val="ff0000"/>
                  </a:solidFill>
                  <a:latin typeface="News Gothic MT"/>
                </a:rPr>
                <a:t>lin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17"/>
            <p:cNvSpPr/>
            <p:nvPr/>
          </p:nvSpPr>
          <p:spPr>
            <a:xfrm>
              <a:off x="1591560" y="5450400"/>
              <a:ext cx="549360" cy="836640"/>
            </a:xfrm>
            <a:prstGeom prst="flowChartMagneticDisk">
              <a:avLst/>
            </a:prstGeom>
            <a:noFill/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 flipV="1">
              <a:off x="1866240" y="4959720"/>
              <a:ext cx="1080" cy="39456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9"/>
            <p:cNvSpPr/>
            <p:nvPr/>
          </p:nvSpPr>
          <p:spPr>
            <a:xfrm>
              <a:off x="1730160" y="5823720"/>
              <a:ext cx="25884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0"/>
            <p:cNvSpPr/>
            <p:nvPr/>
          </p:nvSpPr>
          <p:spPr>
            <a:xfrm>
              <a:off x="1436760" y="4447080"/>
              <a:ext cx="684360" cy="446040"/>
            </a:xfrm>
            <a:prstGeom prst="rect">
              <a:avLst/>
            </a:prstGeom>
            <a:solidFill>
              <a:srgbClr val="e0e0e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21"/>
            <p:cNvSpPr/>
            <p:nvPr/>
          </p:nvSpPr>
          <p:spPr>
            <a:xfrm>
              <a:off x="2661840" y="3909960"/>
              <a:ext cx="683280" cy="447480"/>
            </a:xfrm>
            <a:prstGeom prst="rect">
              <a:avLst/>
            </a:prstGeom>
            <a:solidFill>
              <a:srgbClr val="e0e0e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2"/>
            <p:cNvSpPr/>
            <p:nvPr/>
          </p:nvSpPr>
          <p:spPr>
            <a:xfrm>
              <a:off x="2656440" y="4455000"/>
              <a:ext cx="684360" cy="444960"/>
            </a:xfrm>
            <a:prstGeom prst="rect">
              <a:avLst/>
            </a:prstGeom>
            <a:solidFill>
              <a:srgbClr val="e0e0e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23"/>
            <p:cNvSpPr/>
            <p:nvPr/>
          </p:nvSpPr>
          <p:spPr>
            <a:xfrm>
              <a:off x="3999240" y="3897720"/>
              <a:ext cx="685440" cy="447480"/>
            </a:xfrm>
            <a:prstGeom prst="rect">
              <a:avLst/>
            </a:prstGeom>
            <a:solidFill>
              <a:srgbClr val="e0e0e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24"/>
            <p:cNvSpPr/>
            <p:nvPr/>
          </p:nvSpPr>
          <p:spPr>
            <a:xfrm>
              <a:off x="3994920" y="4442760"/>
              <a:ext cx="684720" cy="444600"/>
            </a:xfrm>
            <a:prstGeom prst="rect">
              <a:avLst/>
            </a:prstGeom>
            <a:solidFill>
              <a:srgbClr val="e0e0e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25"/>
            <p:cNvSpPr/>
            <p:nvPr/>
          </p:nvSpPr>
          <p:spPr>
            <a:xfrm>
              <a:off x="5436360" y="5450400"/>
              <a:ext cx="548280" cy="836640"/>
            </a:xfrm>
            <a:prstGeom prst="flowChartMagneticDisk">
              <a:avLst/>
            </a:prstGeom>
            <a:noFill/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6"/>
            <p:cNvSpPr/>
            <p:nvPr/>
          </p:nvSpPr>
          <p:spPr>
            <a:xfrm flipV="1">
              <a:off x="5711040" y="4959720"/>
              <a:ext cx="1440" cy="39456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27"/>
            <p:cNvSpPr/>
            <p:nvPr/>
          </p:nvSpPr>
          <p:spPr>
            <a:xfrm>
              <a:off x="6753600" y="5438160"/>
              <a:ext cx="549720" cy="836640"/>
            </a:xfrm>
            <a:prstGeom prst="flowChartMagneticDisk">
              <a:avLst/>
            </a:prstGeom>
            <a:noFill/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28"/>
            <p:cNvSpPr/>
            <p:nvPr/>
          </p:nvSpPr>
          <p:spPr>
            <a:xfrm>
              <a:off x="5588640" y="5842440"/>
              <a:ext cx="25992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29"/>
            <p:cNvSpPr/>
            <p:nvPr/>
          </p:nvSpPr>
          <p:spPr>
            <a:xfrm>
              <a:off x="6906960" y="5830560"/>
              <a:ext cx="2628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30"/>
            <p:cNvSpPr/>
            <p:nvPr/>
          </p:nvSpPr>
          <p:spPr>
            <a:xfrm flipV="1">
              <a:off x="7044480" y="4955400"/>
              <a:ext cx="1080" cy="39312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31"/>
            <p:cNvSpPr/>
            <p:nvPr/>
          </p:nvSpPr>
          <p:spPr>
            <a:xfrm>
              <a:off x="6132960" y="4122720"/>
              <a:ext cx="460080" cy="115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2"/>
            <p:cNvSpPr/>
            <p:nvPr/>
          </p:nvSpPr>
          <p:spPr>
            <a:xfrm>
              <a:off x="6143760" y="4552560"/>
              <a:ext cx="489600" cy="156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3"/>
            <p:cNvSpPr/>
            <p:nvPr/>
          </p:nvSpPr>
          <p:spPr>
            <a:xfrm>
              <a:off x="5368320" y="3905640"/>
              <a:ext cx="684360" cy="446040"/>
            </a:xfrm>
            <a:prstGeom prst="rect">
              <a:avLst/>
            </a:prstGeom>
            <a:solidFill>
              <a:srgbClr val="e0e0e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4"/>
            <p:cNvSpPr/>
            <p:nvPr/>
          </p:nvSpPr>
          <p:spPr>
            <a:xfrm>
              <a:off x="5364360" y="4449600"/>
              <a:ext cx="684360" cy="444600"/>
            </a:xfrm>
            <a:prstGeom prst="rect">
              <a:avLst/>
            </a:prstGeom>
            <a:solidFill>
              <a:srgbClr val="e0e0e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5"/>
            <p:cNvSpPr/>
            <p:nvPr/>
          </p:nvSpPr>
          <p:spPr>
            <a:xfrm>
              <a:off x="6706800" y="3893400"/>
              <a:ext cx="684360" cy="445680"/>
            </a:xfrm>
            <a:prstGeom prst="rect">
              <a:avLst/>
            </a:prstGeom>
            <a:solidFill>
              <a:srgbClr val="e0e0e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6"/>
            <p:cNvSpPr/>
            <p:nvPr/>
          </p:nvSpPr>
          <p:spPr>
            <a:xfrm>
              <a:off x="6702840" y="4437360"/>
              <a:ext cx="683280" cy="444600"/>
            </a:xfrm>
            <a:prstGeom prst="rect">
              <a:avLst/>
            </a:prstGeom>
            <a:solidFill>
              <a:srgbClr val="e0e0e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7"/>
            <p:cNvSpPr/>
            <p:nvPr/>
          </p:nvSpPr>
          <p:spPr>
            <a:xfrm flipH="1">
              <a:off x="4802400" y="4106520"/>
              <a:ext cx="411120" cy="49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8"/>
            <p:cNvSpPr/>
            <p:nvPr/>
          </p:nvSpPr>
          <p:spPr>
            <a:xfrm flipH="1">
              <a:off x="4802040" y="4727880"/>
              <a:ext cx="423000" cy="14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39"/>
            <p:cNvSpPr/>
            <p:nvPr/>
          </p:nvSpPr>
          <p:spPr>
            <a:xfrm>
              <a:off x="3326760" y="5001480"/>
              <a:ext cx="6688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41040" bIns="410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News Gothic MT"/>
                </a:rPr>
                <a:t>typed</a:t>
              </a:r>
              <a:br>
                <a:rPr sz="1400"/>
              </a:br>
              <a:r>
                <a:rPr b="1" lang="en-GB" sz="1400" spc="-1" strike="noStrike">
                  <a:solidFill>
                    <a:srgbClr val="ff0000"/>
                  </a:solidFill>
                  <a:latin typeface="News Gothic MT"/>
                </a:rPr>
                <a:t>lin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0"/>
            <p:cNvSpPr/>
            <p:nvPr/>
          </p:nvSpPr>
          <p:spPr>
            <a:xfrm>
              <a:off x="4676400" y="5001480"/>
              <a:ext cx="6688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41040" bIns="410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News Gothic MT"/>
                </a:rPr>
                <a:t>typed</a:t>
              </a:r>
              <a:br>
                <a:rPr sz="1400"/>
              </a:br>
              <a:r>
                <a:rPr b="1" lang="en-GB" sz="1400" spc="-1" strike="noStrike">
                  <a:solidFill>
                    <a:srgbClr val="ff0000"/>
                  </a:solidFill>
                  <a:latin typeface="News Gothic MT"/>
                </a:rPr>
                <a:t>lin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41"/>
            <p:cNvSpPr/>
            <p:nvPr/>
          </p:nvSpPr>
          <p:spPr>
            <a:xfrm>
              <a:off x="6052680" y="5001480"/>
              <a:ext cx="6688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41040" bIns="410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News Gothic MT"/>
                </a:rPr>
                <a:t>typed</a:t>
              </a:r>
              <a:br>
                <a:rPr sz="1400"/>
              </a:br>
              <a:r>
                <a:rPr b="1" lang="en-GB" sz="1400" spc="-1" strike="noStrike">
                  <a:solidFill>
                    <a:srgbClr val="ff0000"/>
                  </a:solidFill>
                  <a:latin typeface="News Gothic MT"/>
                </a:rPr>
                <a:t>lin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42"/>
            <p:cNvSpPr/>
            <p:nvPr/>
          </p:nvSpPr>
          <p:spPr>
            <a:xfrm>
              <a:off x="1467000" y="4537800"/>
              <a:ext cx="6217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43"/>
            <p:cNvSpPr/>
            <p:nvPr/>
          </p:nvSpPr>
          <p:spPr>
            <a:xfrm>
              <a:off x="2685960" y="4011480"/>
              <a:ext cx="622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44"/>
            <p:cNvSpPr/>
            <p:nvPr/>
          </p:nvSpPr>
          <p:spPr>
            <a:xfrm>
              <a:off x="2685960" y="4537800"/>
              <a:ext cx="622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45"/>
            <p:cNvSpPr/>
            <p:nvPr/>
          </p:nvSpPr>
          <p:spPr>
            <a:xfrm>
              <a:off x="4035240" y="4011480"/>
              <a:ext cx="622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46"/>
            <p:cNvSpPr/>
            <p:nvPr/>
          </p:nvSpPr>
          <p:spPr>
            <a:xfrm>
              <a:off x="4035240" y="4537800"/>
              <a:ext cx="622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47"/>
            <p:cNvSpPr/>
            <p:nvPr/>
          </p:nvSpPr>
          <p:spPr>
            <a:xfrm>
              <a:off x="5385600" y="4537800"/>
              <a:ext cx="62316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48"/>
            <p:cNvSpPr/>
            <p:nvPr/>
          </p:nvSpPr>
          <p:spPr>
            <a:xfrm>
              <a:off x="5385600" y="4011480"/>
              <a:ext cx="62316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9"/>
            <p:cNvSpPr/>
            <p:nvPr/>
          </p:nvSpPr>
          <p:spPr>
            <a:xfrm>
              <a:off x="6734880" y="4537800"/>
              <a:ext cx="6217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50"/>
            <p:cNvSpPr/>
            <p:nvPr/>
          </p:nvSpPr>
          <p:spPr>
            <a:xfrm>
              <a:off x="6734880" y="4011480"/>
              <a:ext cx="6217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  <a:tab algn="l" pos="8400960"/>
                  <a:tab algn="l" pos="8801280"/>
                  <a:tab algn="l" pos="9201240"/>
                  <a:tab algn="l" pos="9601200"/>
                  <a:tab algn="l" pos="10001160"/>
                  <a:tab algn="l" pos="10401480"/>
                  <a:tab algn="l" pos="108014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52"/>
            <p:cNvSpPr/>
            <p:nvPr/>
          </p:nvSpPr>
          <p:spPr>
            <a:xfrm>
              <a:off x="5769720" y="2385360"/>
              <a:ext cx="1239840" cy="700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168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News Gothic MT"/>
                </a:rPr>
                <a:t>Search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News Gothic MT"/>
                </a:rPr>
                <a:t>Engi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53"/>
            <p:cNvSpPr/>
            <p:nvPr/>
          </p:nvSpPr>
          <p:spPr>
            <a:xfrm>
              <a:off x="3713400" y="2374560"/>
              <a:ext cx="1278360" cy="713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168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News Gothic MT"/>
                </a:rPr>
                <a:t>Linked Data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News Gothic MT"/>
                </a:rPr>
                <a:t>Mashu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54"/>
            <p:cNvSpPr/>
            <p:nvPr/>
          </p:nvSpPr>
          <p:spPr>
            <a:xfrm>
              <a:off x="2109240" y="3291480"/>
              <a:ext cx="382680" cy="357840"/>
            </a:xfrm>
            <a:prstGeom prst="upArrow">
              <a:avLst>
                <a:gd name="adj1" fmla="val 49852"/>
                <a:gd name="adj2" fmla="val 34199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55"/>
            <p:cNvSpPr/>
            <p:nvPr/>
          </p:nvSpPr>
          <p:spPr>
            <a:xfrm>
              <a:off x="4160520" y="3291480"/>
              <a:ext cx="383040" cy="357840"/>
            </a:xfrm>
            <a:prstGeom prst="upArrow">
              <a:avLst>
                <a:gd name="adj1" fmla="val 49852"/>
                <a:gd name="adj2" fmla="val 34199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56"/>
            <p:cNvSpPr/>
            <p:nvPr/>
          </p:nvSpPr>
          <p:spPr>
            <a:xfrm>
              <a:off x="6212880" y="3289680"/>
              <a:ext cx="383040" cy="359280"/>
            </a:xfrm>
            <a:prstGeom prst="upArrow">
              <a:avLst>
                <a:gd name="adj1" fmla="val 49852"/>
                <a:gd name="adj2" fmla="val 34199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7"/>
            <p:cNvSpPr/>
            <p:nvPr/>
          </p:nvSpPr>
          <p:spPr>
            <a:xfrm>
              <a:off x="1644840" y="2362320"/>
              <a:ext cx="1290240" cy="725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168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News Gothic MT"/>
                </a:rPr>
                <a:t>Linked 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News Gothic MT"/>
                </a:rPr>
                <a:t>Brows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58"/>
          <p:cNvSpPr/>
          <p:nvPr/>
        </p:nvSpPr>
        <p:spPr>
          <a:xfrm>
            <a:off x="-152280" y="1522440"/>
            <a:ext cx="87627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marL="457200" indent="-457200">
              <a:lnSpc>
                <a:spcPct val="95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emantic Web technologies to publish structured data on the Web and set links between data from one data source and data from another data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228800" y="6629400"/>
            <a:ext cx="15400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Chris B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ctr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ta Objects Identified with HTTP UR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4"/>
          <p:cNvSpPr/>
          <p:nvPr/>
        </p:nvSpPr>
        <p:spPr>
          <a:xfrm>
            <a:off x="711360" y="1793880"/>
            <a:ext cx="1465200" cy="746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News Gothic MT"/>
              </a:rPr>
              <a:t>pd:cygr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2583000" y="2790720"/>
            <a:ext cx="2336760" cy="40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Richard Cygania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6"/>
          <p:cNvSpPr/>
          <p:nvPr/>
        </p:nvSpPr>
        <p:spPr>
          <a:xfrm>
            <a:off x="3268800" y="3367080"/>
            <a:ext cx="2293920" cy="747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News Gothic MT"/>
              </a:rPr>
              <a:t>dbpedia:Berl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1110240" y="2603520"/>
            <a:ext cx="14407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foaf:na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1044360" y="3311640"/>
            <a:ext cx="21769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foaf:based_ne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990720" y="2459160"/>
            <a:ext cx="0" cy="12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0"/>
          <p:cNvSpPr/>
          <p:nvPr/>
        </p:nvSpPr>
        <p:spPr>
          <a:xfrm>
            <a:off x="990720" y="3052800"/>
            <a:ext cx="1582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995400" y="3733920"/>
            <a:ext cx="226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2"/>
          <p:cNvSpPr/>
          <p:nvPr/>
        </p:nvSpPr>
        <p:spPr>
          <a:xfrm>
            <a:off x="3213000" y="1781280"/>
            <a:ext cx="1670040" cy="747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foaf:Pers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2176560" y="2165400"/>
            <a:ext cx="103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2116800" y="1703520"/>
            <a:ext cx="11451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rdf:typ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7"/>
          <p:cNvSpPr/>
          <p:nvPr/>
        </p:nvSpPr>
        <p:spPr>
          <a:xfrm>
            <a:off x="683640" y="4348080"/>
            <a:ext cx="6651360" cy="17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News Gothic MT"/>
              </a:rPr>
              <a:t>pd:cygri</a:t>
            </a:r>
            <a:r>
              <a:rPr b="0" lang="en-US" sz="2100" spc="-1" strike="noStrike">
                <a:solidFill>
                  <a:srgbClr val="000066"/>
                </a:solidFill>
                <a:latin typeface="News Gothic MT"/>
              </a:rPr>
              <a:t> = http://richard.cyganiak.de/foaf.rdf#cygri</a:t>
            </a:r>
            <a:br>
              <a:rPr sz="2100"/>
            </a:br>
            <a:r>
              <a:rPr b="0" lang="en-US" sz="2100" spc="-1" strike="noStrike">
                <a:solidFill>
                  <a:srgbClr val="ff0000"/>
                </a:solidFill>
                <a:latin typeface="News Gothic MT"/>
              </a:rPr>
              <a:t>dbpedia:Berlin</a:t>
            </a:r>
            <a:r>
              <a:rPr b="0" lang="en-US" sz="2100" spc="-1" strike="noStrike">
                <a:solidFill>
                  <a:srgbClr val="000066"/>
                </a:solidFill>
                <a:latin typeface="News Gothic MT"/>
              </a:rPr>
              <a:t> = http://dbpedia.org/resource/Berl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Forms an RDF link between two data sour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228800" y="6629400"/>
            <a:ext cx="15400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Chris B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ctr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referencing URIs over the We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Group 3"/>
          <p:cNvGrpSpPr/>
          <p:nvPr/>
        </p:nvGrpSpPr>
        <p:grpSpPr>
          <a:xfrm>
            <a:off x="4770360" y="2754360"/>
            <a:ext cx="3839760" cy="2883960"/>
            <a:chOff x="4770360" y="2754360"/>
            <a:chExt cx="3839760" cy="2883960"/>
          </a:xfrm>
        </p:grpSpPr>
        <p:sp>
          <p:nvSpPr>
            <p:cNvPr id="191" name="Oval 4"/>
            <p:cNvSpPr/>
            <p:nvPr/>
          </p:nvSpPr>
          <p:spPr>
            <a:xfrm>
              <a:off x="4830120" y="4891320"/>
              <a:ext cx="2960640" cy="747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News Gothic MT"/>
                </a:rPr>
                <a:t>dp:Cities_in_German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5"/>
            <p:cNvSpPr/>
            <p:nvPr/>
          </p:nvSpPr>
          <p:spPr>
            <a:xfrm>
              <a:off x="6969240" y="2754360"/>
              <a:ext cx="1640880" cy="4003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spAutoFit/>
            </a:bodyPr>
            <a:p>
              <a:pPr algn="ctr">
                <a:lnSpc>
                  <a:spcPct val="100000"/>
                </a:lnSpc>
                <a:spcBef>
                  <a:spcPts val="1576"/>
                </a:spcBef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News Gothic MT"/>
                </a:rPr>
                <a:t>3.405.259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6"/>
            <p:cNvSpPr/>
            <p:nvPr/>
          </p:nvSpPr>
          <p:spPr>
            <a:xfrm>
              <a:off x="5022360" y="3013920"/>
              <a:ext cx="192528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News Gothic MT"/>
                </a:rPr>
                <a:t>dp:popul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7"/>
            <p:cNvSpPr/>
            <p:nvPr/>
          </p:nvSpPr>
          <p:spPr>
            <a:xfrm>
              <a:off x="5931360" y="4241160"/>
              <a:ext cx="16923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News Gothic MT"/>
                </a:rPr>
                <a:t>skos:subjec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8"/>
            <p:cNvSpPr/>
            <p:nvPr/>
          </p:nvSpPr>
          <p:spPr>
            <a:xfrm>
              <a:off x="4770360" y="4225680"/>
              <a:ext cx="1523880" cy="669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"/>
            <p:cNvSpPr/>
            <p:nvPr/>
          </p:nvSpPr>
          <p:spPr>
            <a:xfrm flipV="1">
              <a:off x="5465520" y="3191040"/>
              <a:ext cx="2207160" cy="685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 Box 12"/>
          <p:cNvSpPr/>
          <p:nvPr/>
        </p:nvSpPr>
        <p:spPr>
          <a:xfrm>
            <a:off x="2473200" y="2928960"/>
            <a:ext cx="2336760" cy="40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Richard Cygania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3"/>
          <p:cNvSpPr/>
          <p:nvPr/>
        </p:nvSpPr>
        <p:spPr>
          <a:xfrm>
            <a:off x="3159000" y="3505320"/>
            <a:ext cx="2293920" cy="747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News Gothic MT"/>
              </a:rPr>
              <a:t>dbpedia:Berl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1000440" y="2741760"/>
            <a:ext cx="14407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foaf:na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934920" y="3449520"/>
            <a:ext cx="21769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foaf:based_ne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6"/>
          <p:cNvSpPr/>
          <p:nvPr/>
        </p:nvSpPr>
        <p:spPr>
          <a:xfrm>
            <a:off x="880920" y="2597040"/>
            <a:ext cx="0" cy="12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7"/>
          <p:cNvSpPr/>
          <p:nvPr/>
        </p:nvSpPr>
        <p:spPr>
          <a:xfrm>
            <a:off x="880920" y="3191040"/>
            <a:ext cx="1582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8"/>
          <p:cNvSpPr/>
          <p:nvPr/>
        </p:nvSpPr>
        <p:spPr>
          <a:xfrm>
            <a:off x="885960" y="3871800"/>
            <a:ext cx="2265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9"/>
          <p:cNvSpPr/>
          <p:nvPr/>
        </p:nvSpPr>
        <p:spPr>
          <a:xfrm>
            <a:off x="3103560" y="1919160"/>
            <a:ext cx="1670040" cy="747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foaf:Pers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0"/>
          <p:cNvSpPr/>
          <p:nvPr/>
        </p:nvSpPr>
        <p:spPr>
          <a:xfrm>
            <a:off x="2066760" y="2303640"/>
            <a:ext cx="103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2007360" y="1841400"/>
            <a:ext cx="11451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rdf:typ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3"/>
          <p:cNvSpPr/>
          <p:nvPr/>
        </p:nvSpPr>
        <p:spPr>
          <a:xfrm>
            <a:off x="601560" y="1932120"/>
            <a:ext cx="1465200" cy="745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pd:cygr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228800" y="6629400"/>
            <a:ext cx="15400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Chris B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ctr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referencing URIs over the We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4923000" y="2371680"/>
            <a:ext cx="3839760" cy="2884320"/>
            <a:chOff x="4923000" y="2371680"/>
            <a:chExt cx="3839760" cy="2884320"/>
          </a:xfrm>
        </p:grpSpPr>
        <p:sp>
          <p:nvSpPr>
            <p:cNvPr id="211" name="Oval 4"/>
            <p:cNvSpPr/>
            <p:nvPr/>
          </p:nvSpPr>
          <p:spPr>
            <a:xfrm>
              <a:off x="4982760" y="4509000"/>
              <a:ext cx="2960640" cy="747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News Gothic MT"/>
                </a:rPr>
                <a:t>dp:Cities_in_German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5"/>
            <p:cNvSpPr/>
            <p:nvPr/>
          </p:nvSpPr>
          <p:spPr>
            <a:xfrm>
              <a:off x="7121880" y="2371680"/>
              <a:ext cx="1640880" cy="4003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spAutoFit/>
            </a:bodyPr>
            <a:p>
              <a:pPr algn="ctr">
                <a:lnSpc>
                  <a:spcPct val="100000"/>
                </a:lnSpc>
                <a:spcBef>
                  <a:spcPts val="1576"/>
                </a:spcBef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News Gothic MT"/>
                </a:rPr>
                <a:t>3.405.259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6"/>
            <p:cNvSpPr/>
            <p:nvPr/>
          </p:nvSpPr>
          <p:spPr>
            <a:xfrm>
              <a:off x="5175000" y="2631240"/>
              <a:ext cx="192528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News Gothic MT"/>
                </a:rPr>
                <a:t>dp:popul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7"/>
            <p:cNvSpPr/>
            <p:nvPr/>
          </p:nvSpPr>
          <p:spPr>
            <a:xfrm>
              <a:off x="6084000" y="3858840"/>
              <a:ext cx="16923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News Gothic MT"/>
                </a:rPr>
                <a:t>skos:subjec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8"/>
            <p:cNvSpPr/>
            <p:nvPr/>
          </p:nvSpPr>
          <p:spPr>
            <a:xfrm>
              <a:off x="4923000" y="3843360"/>
              <a:ext cx="1523880" cy="669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9"/>
            <p:cNvSpPr/>
            <p:nvPr/>
          </p:nvSpPr>
          <p:spPr>
            <a:xfrm flipV="1">
              <a:off x="5618160" y="2808360"/>
              <a:ext cx="2207160" cy="685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2"/>
          <p:cNvSpPr/>
          <p:nvPr/>
        </p:nvSpPr>
        <p:spPr>
          <a:xfrm>
            <a:off x="2625840" y="2546280"/>
            <a:ext cx="2336760" cy="40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Richard Cygania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3"/>
          <p:cNvSpPr/>
          <p:nvPr/>
        </p:nvSpPr>
        <p:spPr>
          <a:xfrm>
            <a:off x="3311640" y="3122640"/>
            <a:ext cx="2293920" cy="747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dbpedia:Berl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1153080" y="2359080"/>
            <a:ext cx="14407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foaf:na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5"/>
          <p:cNvSpPr/>
          <p:nvPr/>
        </p:nvSpPr>
        <p:spPr>
          <a:xfrm>
            <a:off x="1087200" y="3067200"/>
            <a:ext cx="21769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foaf:based_ne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1033560" y="2214720"/>
            <a:ext cx="0" cy="12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1033560" y="2808360"/>
            <a:ext cx="1582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8"/>
          <p:cNvSpPr/>
          <p:nvPr/>
        </p:nvSpPr>
        <p:spPr>
          <a:xfrm>
            <a:off x="1038240" y="3489480"/>
            <a:ext cx="226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9"/>
          <p:cNvSpPr/>
          <p:nvPr/>
        </p:nvSpPr>
        <p:spPr>
          <a:xfrm>
            <a:off x="3255840" y="1536840"/>
            <a:ext cx="1670040" cy="747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foaf:Pers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2219400" y="1920960"/>
            <a:ext cx="103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1"/>
          <p:cNvSpPr/>
          <p:nvPr/>
        </p:nvSpPr>
        <p:spPr>
          <a:xfrm>
            <a:off x="2159640" y="1459080"/>
            <a:ext cx="11451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rdf:typ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4"/>
          <p:cNvSpPr/>
          <p:nvPr/>
        </p:nvSpPr>
        <p:spPr>
          <a:xfrm>
            <a:off x="3083040" y="4863960"/>
            <a:ext cx="1914480" cy="30240"/>
          </a:xfrm>
          <a:prstGeom prst="line">
            <a:avLst/>
          </a:prstGeom>
          <a:ln w="1260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28"/>
          <p:cNvSpPr/>
          <p:nvPr/>
        </p:nvSpPr>
        <p:spPr>
          <a:xfrm>
            <a:off x="754200" y="1549440"/>
            <a:ext cx="1465200" cy="745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pd:cygr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399120" y="4419720"/>
            <a:ext cx="147132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skos:subjec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51400" y="5638680"/>
            <a:ext cx="147132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skos:subjec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9640" y="4800600"/>
            <a:ext cx="21160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dbpedia:Hambur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84880" y="5867280"/>
            <a:ext cx="22654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dbpedia:Meunch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4"/>
          <p:cNvSpPr/>
          <p:nvPr/>
        </p:nvSpPr>
        <p:spPr>
          <a:xfrm flipV="1">
            <a:off x="3173400" y="5029200"/>
            <a:ext cx="1828800" cy="838080"/>
          </a:xfrm>
          <a:prstGeom prst="line">
            <a:avLst/>
          </a:prstGeom>
          <a:ln w="1260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58800" y="4572000"/>
            <a:ext cx="2362320" cy="762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11080" y="5638680"/>
            <a:ext cx="2362320" cy="762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28800" y="6629400"/>
            <a:ext cx="15400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Chris B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ctr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inked Data Clou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1447920" y="1433520"/>
            <a:ext cx="6019560" cy="48909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3"/>
          <p:cNvSpPr/>
          <p:nvPr/>
        </p:nvSpPr>
        <p:spPr>
          <a:xfrm>
            <a:off x="236520" y="5867280"/>
            <a:ext cx="2278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noAutofit/>
          </a:bodyPr>
          <a:p>
            <a:pPr marL="324000" indent="-324000">
              <a:spcBef>
                <a:spcPts val="176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2 billion RDF trip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76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3 million li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LinkingOpenData?action=AttachFile&amp;do=get&amp;target=LoDLogo"/>
          <p:cNvPicPr/>
          <p:nvPr/>
        </p:nvPicPr>
        <p:blipFill>
          <a:blip r:embed="rId2"/>
          <a:stretch/>
        </p:blipFill>
        <p:spPr>
          <a:xfrm>
            <a:off x="6870600" y="1371600"/>
            <a:ext cx="2044800" cy="4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ctr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Linking Open Drug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283680" y="1622520"/>
            <a:ext cx="707832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News Gothic MT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HCLSIG task started October 1, 200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News Gothic MT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Primary Objectiv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0032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News Gothic MT"/>
              <a:buChar char="•"/>
              <a:tabLst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Survey publicly available data sets about drug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0032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News Gothic MT"/>
              <a:buChar char="•"/>
              <a:tabLst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Publish and interlink these data sets on the Web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0032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News Gothic MT"/>
              <a:buChar char="•"/>
              <a:tabLst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Explore interesting questions that could b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News Gothic MT"/>
              </a:rPr>
              <a:t>answered if the data sets are link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11:52:50Z</dcterms:created>
  <dc:creator>kblanc</dc:creator>
  <dc:description/>
  <dc:language>en-US</dc:language>
  <cp:lastModifiedBy>c082000</cp:lastModifiedBy>
  <cp:lastPrinted>2000-03-06T21:03:57Z</cp:lastPrinted>
  <dcterms:modified xsi:type="dcterms:W3CDTF">2009-02-25T22:16:54Z</dcterms:modified>
  <cp:revision>685</cp:revision>
  <dc:subject/>
  <dc:title>Open Innov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anguage">
    <vt:lpwstr>eng</vt:lpwstr>
  </property>
  <property fmtid="{D5CDD505-2E9C-101B-9397-08002B2CF9AE}" pid="3" name="RecordSeries">
    <vt:lpwstr>ADM100</vt:lpwstr>
  </property>
  <property fmtid="{D5CDD505-2E9C-101B-9397-08002B2CF9AE}" pid="4" name="SensitivityClassification">
    <vt:lpwstr>GREEN</vt:lpwstr>
  </property>
</Properties>
</file>